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8476-935F-407F-BF68-0AD7F919A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1690-8808-447B-A624-80EAA027A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61EE-BB7B-46B0-AE4B-E6AACAC48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982D-836A-403D-B66A-612EDA010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64FD-A470-44AB-8830-69827174B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97D4-47BD-4A7E-9B58-FC7BB8081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254F-757C-411C-A168-99F08850E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910B-5DA7-43E2-A8A9-725C06EAB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680F-4EB2-4E79-87B3-D134F2311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BC77-28FB-4A14-84ED-11FDA59B7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5021-EA58-48AC-B7EE-34D71A79A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8953-3588-49ED-8789-25345520D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9A3B-0BB4-486E-A52C-DA43F55A0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F6AE-8572-4E03-9DD0-C9E857EC5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D05F-FD75-4A38-9AEF-FC79A32BF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DEDB-FC0C-4A4E-90BC-DBCF83529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A517-0DD9-4DD8-9891-29700FA8E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7A91-F6CC-47E8-AE07-F307136B1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FEE9-A039-4E35-B30A-49CE227F3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92DA-9B0A-4208-97C6-CA1072884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D4CE-E00D-4EC4-92AA-DF9436B3D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228D-2774-4B2D-B58E-BE12C03A4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A37F-86EA-4E28-9FE8-3532FBE90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F70B-4015-4C1D-94F2-2CD106B43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52EC-FFAF-46E2-B290-8A52B977A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6298-2925-4B58-9DFC-AC939B39A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0575-B266-4D91-85F2-A99EBE393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ABFC-B72E-43F8-A8E8-C3A02DB8D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9855-DE95-43C1-9953-B7F1040BC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9EC3-DF0C-49D2-9163-878273EC6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D69F-7415-46CC-90B1-5666B0ED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469-8379-4C39-8118-67D4F07D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C37-5340-4DEB-9CAE-917B5414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1BAB-B388-49C9-AB83-1107BC6C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CD84-00B3-48BC-8111-67B98A3A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3ECF-029D-4776-871F-B21C096D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86FD-0AEE-448B-9593-1B552DA3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A825-6D84-404C-8458-1062A09A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C53D-84AF-4A95-8250-4FDD1499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B22D-CD68-4298-8A88-5B4995FD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27C0-31C8-4F42-8E65-53F336C9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E208-98EC-4B75-BA9D-1A22F903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253D-C19E-44DC-A327-2EC1BF78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91C4-0F6D-4DCB-AC20-0E3F233D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05A0-1782-49EA-AF10-FCFF33E9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095D-8D6D-4E4C-A74E-B1414208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8707-6588-459A-AE1F-569CD98A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B766-1BE1-4A4E-B69D-781E81A4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9E9-04F9-4A7E-B095-B392EA2E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C45F-B2FC-4F1D-A00D-79FB6540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32B3-B74B-49B8-8A2B-AD29E8F0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4DC7-3B2E-4DF8-9DFA-E029C5E3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AE5-ED5E-4EE8-B937-CB66E324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48C-0CD0-4FFF-9D73-261F6CE0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5AFC-2210-430B-A608-A2FB69A5A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7621-F50E-47C9-9799-36982B340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studi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209680" y="6094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 1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tea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nt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ente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spe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wait for/ to expec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leg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arriv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mi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look at/ to wat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lev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stud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we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1337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necesit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need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as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pass/ to happen/ to pass b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repar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prepar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us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us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ll the Word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ud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ñ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l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55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yud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help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busc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look for/ to sear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ontest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o answe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nseñar</a:t>
            </a:r>
            <a:r>
              <a:rPr b="1" lang="en-US" sz="4400" spc="-1" strike="noStrike">
                <a:solidFill>
                  <a:srgbClr val="996600"/>
                </a:solidFill>
                <a:latin typeface="ヒラギノ明朝 ProN W6"/>
                <a:ea typeface="ＭＳ Ｐゴシック"/>
              </a:rPr>
              <a:t> 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ty Sinkler</cp:lastModifiedBy>
  <dcterms:modified xsi:type="dcterms:W3CDTF">2008-05-23T23:16:26Z</dcterms:modified>
  <cp:revision>10</cp:revision>
  <dc:subject/>
  <dc:title>el arte</dc:title>
</cp:coreProperties>
</file>