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C3C02-D005-4A96-8E97-FCD6937B88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2CA34-0890-4444-BEF1-76C155E73D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743F8-A421-42D2-A13F-C082CE76E3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469A0-F6CA-4065-91D3-CA6165D881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3F829-C2C3-4AA4-BF0D-66AB627579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C761E-B9C0-450E-AC50-2FC85C50D7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1DF8C-F513-447E-9C78-24A43F8470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E9002-4526-4DEB-AE21-A2DF51FD0E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D1FD3-1CF7-442E-B7F5-F522463356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8C769-E2D4-4A2C-A443-450BF2A78D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B51C8-C85E-4C84-990D-BEFE425EB6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D35F5-F3EB-4B00-B837-9E151B8084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B221D-D178-44D2-8279-7FB15865DC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C1D1C-F7A8-4FAE-AAA9-B5E803C720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4C077-4771-47FA-B462-D0F9150332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B7F29-A575-40D1-BD4E-6AFB37CB64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61C08-322B-44D8-A9D0-E991B1B724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61F1F-673B-4078-9EE0-B22269AF2C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FCB4F-6DAC-4984-B84F-EBBD94E51D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ACFEF-7E74-4D4A-A1C5-4D082E1B41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4E4F2-FAB2-46E0-9175-9B888A6A96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8B7F7-2062-4B5A-878C-38C6247B72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9F2A3-6099-42D0-946A-A543E7C9F4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4E9BA-5E0A-4DA1-831D-D862CDDE0F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3E04D-D084-4E38-AD85-26008FC95B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4A798-6F07-4352-8162-243C227041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6F8F1-63ED-490E-A21A-DE3F9893B2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8D842-51B1-427A-898B-40FA903ACC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6422E-09BF-4ACB-B364-7C46034B81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53F60-C48C-448E-B596-C4D4BEBBCD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936D-829F-493D-8986-C6C2623A2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405720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5FF2-7973-49CD-8FE6-C79124CC5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3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8A54-BDB6-4D4C-88CF-116038A40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3864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1516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3864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1516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90EA-D5FD-4855-9B46-227C6488B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7BD33-C3B8-4FA4-8E5E-A8E846F45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C2082-7217-44F2-BE2D-9F23C52E9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2FFAC-8E05-4CC1-BD1A-F91E21A45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AD032-2291-429C-973E-E84866D7E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3A744-2DBE-4E09-BC76-757E3EA1C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4A586-8EC2-42C2-A158-CD4440A40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0AB0E-DC29-4CFA-B315-337E07592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05D0-78C1-4194-A04B-8C4013EB9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63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414E7-9907-400B-8BD9-E023650F9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22BEB-6BB2-4AE4-B81D-9AFCF1B8D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62120" y="405720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91E5D-D6EC-403D-95F9-413857B31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63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9B97A-265E-4CC3-B420-09A969884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864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1516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6212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864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1516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D816F-FE76-414B-8535-34232890D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1D43-79E7-42FF-A5B1-E7F4F98AF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BBFC-A814-49A7-9067-4BCB94314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CB09-396C-409A-AFB4-D6E9CB720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C4E1-F40E-444A-8DE5-F80EF1899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BFAC-17ED-4C38-81C0-20D4F798F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3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58AC-018D-48C9-AF57-FA22628A9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6834-E59D-4FEE-809B-4BD4E052D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4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7428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C165F-17CE-4229-B2F5-8D53293992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2B242-CA41-4226-821B-F592916395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Estudiar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2209680" y="609480"/>
            <a:ext cx="5257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p 1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To teach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entrar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to enter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esperar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to wait for/ to expect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llegar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to arrive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mirar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to look at/ to watch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838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llevar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to study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to wear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2133720"/>
            <a:ext cx="8153280" cy="259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838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necesitar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to need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160" y="2209680"/>
            <a:ext cx="792468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838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pasar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to pass/ to happen/ to pass by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838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preparar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to prepare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838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usar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to use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All the Words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37335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udi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yud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sc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st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ñ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tr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per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leg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47960" y="1828440"/>
            <a:ext cx="37335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lev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r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cesit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s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6" descr=""/>
          <p:cNvPicPr/>
          <p:nvPr/>
        </p:nvPicPr>
        <p:blipFill>
          <a:blip r:embed="rId2"/>
          <a:stretch/>
        </p:blipFill>
        <p:spPr>
          <a:xfrm>
            <a:off x="2895480" y="4419720"/>
            <a:ext cx="129564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7553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819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ayudar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to help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buscar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to look for/ to search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contestar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to answer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enseñar</a:t>
            </a:r>
            <a:r>
              <a:rPr b="1" lang="en-US" sz="4400" spc="-1" strike="noStrike">
                <a:solidFill>
                  <a:srgbClr val="996600"/>
                </a:solidFill>
                <a:latin typeface="ヒラギノ明朝 ProN W6"/>
                <a:ea typeface="ＭＳ Ｐゴシック"/>
              </a:rPr>
              <a:t> 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tty Sinkler</cp:lastModifiedBy>
  <dcterms:modified xsi:type="dcterms:W3CDTF">2008-05-23T23:16:26Z</dcterms:modified>
  <cp:revision>10</cp:revision>
  <dc:subject/>
  <dc:title>el arte</dc:title>
</cp:coreProperties>
</file>