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1BF0-0879-4E37-8976-21426C73B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B5A2-1FFD-4B44-8EA7-37CEF4FDA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37FE-8E9D-44F9-AF0D-100CCBCFE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7253-2342-4671-BEF2-A2133EAE1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5DD3-164C-49C8-8203-C2425A508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49C5-B409-4DE4-8394-CC3F23A4E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5E36-8BC4-4F50-8CB5-C1994990A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C3D3-8402-4EA2-AB70-A308ADC09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F92A-9A14-446A-83B6-278727879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ED13-A506-4ED7-8F9B-05DD3D0D2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5A98-56AF-446B-9EF9-CE89A3549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AEF6-1520-4269-8564-834409FC7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FBE3-3290-42E9-9CCD-D53984EB7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FB43-C111-486D-9A09-1F296073C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1D64-AD37-41AE-98EF-4DD42355B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4953-6EB7-4CE4-BAC2-5F985DBEE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B187-9C7C-4961-AFB9-853885806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26D8-D86D-4CEB-9FCB-F7B8CB3A9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A36D-8943-4BF5-8158-9EE75F2C8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9329-3FAE-4B47-AB24-95D70413E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3713-77B6-4B11-AC60-820DF4142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8E5A-6F07-414A-8AA1-1B0F1310C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B093-4643-41C7-AB60-E6CAAE844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08AF-D6C0-41EA-AD40-4DAB45E38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F678-30CD-44A0-A4C7-AE5229E49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77DE-44E3-4938-BE23-31E6E5BB1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DFA1-47EE-454E-A19D-949370B07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5EC4-A27C-44EF-AA59-311FAB795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30BD-AA24-4482-986E-9D6D497E4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1E7D-17D5-45BC-B4F8-18E88147C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319-A377-4610-A91D-0E1AAA9E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D4A-943F-44F6-BFBD-0CC31313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814-0CB9-429B-82AD-B391EC45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C77-5588-4401-A9B5-2B80CE17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C494-7F51-452F-B08C-67B94AD8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174D-A0A1-4C04-9035-BB850095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07B8-F07D-4119-A0A1-93D8C85B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9A18-0612-4A36-960C-8775ABD7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46EA-0A3C-4CF2-AB22-507E5829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0396-F05F-4CD3-A9FE-AD63CE40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DCF8-1EF0-45D3-B86C-EF35DE9A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786-B073-4C14-9258-B0745C6C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EFB2-32B9-4218-A6A9-98C277B5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AB9D-691F-4F29-BEF1-00F46F69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88B0-865C-4110-843A-BC3F4C6A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4B84-62DA-4075-9625-1EAA8C92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3E50-7DCB-4995-9C4C-378D8815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DDC-89E8-4FA8-A197-98A46DBE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843-4BEC-4185-974C-5475F0D7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F6E-D088-485F-81E8-CD49FCC3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ECF-24E4-4DC3-95A8-A4FDEE35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96A-2D74-47EB-ACA0-D40274FB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DCB-532E-4C74-A67C-2C4361D9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72D-1523-438F-8891-87344393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804F-B8AE-4C7F-A9C4-49F760CFD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662E-A733-4492-9863-EC8A9F3F0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studi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209680" y="6094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 1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tea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t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ente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spe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wait for/ to expec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leg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arriv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i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look at/ to wat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lev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stud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we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necesit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need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as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pass/ to happen/ to pass b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repa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prepa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us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us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ll the Word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ud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55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yud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help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busc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look for/ to sear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ontest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answe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señar</a:t>
            </a:r>
            <a:r>
              <a:rPr b="1" lang="en-US" sz="4400" spc="-1" strike="noStrike">
                <a:solidFill>
                  <a:srgbClr val="996600"/>
                </a:solidFill>
                <a:latin typeface="ヒラギノ明朝 ProN W6"/>
                <a:ea typeface="ＭＳ Ｐゴシック"/>
              </a:rPr>
              <a:t> 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ty Sinkler</cp:lastModifiedBy>
  <dcterms:modified xsi:type="dcterms:W3CDTF">2008-05-23T23:16:26Z</dcterms:modified>
  <cp:revision>10</cp:revision>
  <dc:subject/>
  <dc:title>el arte</dc:title>
</cp:coreProperties>
</file>