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5C9-EC2A-4AA0-9661-0098C9BD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018-ECFD-4B11-83B1-0FC0FD61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4F8-2E76-4ED6-BD8B-6EA1F23B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CF9-C3FC-406E-90A0-BC0C3B59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F193-822B-4AE2-92A6-FFFE2B2B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A9ED-B8DE-4DDC-95AA-FA1C085C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46A4-1725-40A1-8A03-735DA4A4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D5CE-721C-4766-8C7D-9AAFFD03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3954-EE2D-4785-8FF4-FA45E07D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0EE6-9F38-41D5-9967-15BC93B6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A276-A78D-41E6-8AE0-8E3A7ED5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4A8-4732-4D93-BC71-5EC9D404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14E5-66D9-430E-9892-D29A9F87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A25A-08D2-490D-AD75-2C53AD7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58FD-2751-4B9A-B93F-1F57FDCA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C199-30CC-4E53-B06A-EA514626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F966-1CA2-4437-96CA-941CCD69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E0F-6232-4412-89D1-18B874C0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43A-51F0-4165-B666-DEAB5854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904-BC48-4571-A341-B98E8539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FD9-CAC2-4F76-99F6-D1F87268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8CC-4811-4174-9B7F-3AFBD533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24B-5FF3-4721-8BF2-90F56605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71D-0E74-4CB1-99C4-5F0ED181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0D44-CF07-4AFA-BAE1-FD3902D59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26CA-9DFF-4EFB-99C0-478A0AC3E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page%20121" TargetMode="External"/><Relationship Id="rId3" Type="http://schemas.microsoft.com/office/2007/relationships/media" Target="file:///tmp/home/.config/libreoffice/4/user/gallery/page%20121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art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&amp; Classroom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pan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os estudios social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cial studi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histori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ingl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é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gl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iteratur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mate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tic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athematic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ú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usic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as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ficult / har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xame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es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ec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cienci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ss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prueb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quiz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ci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put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ducacion fi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sp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estudiant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matema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c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971800" y="4791240"/>
            <a:ext cx="15238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1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cienc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comput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mputer clas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educ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 fi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hysical educ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spa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ño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llegiate School</cp:lastModifiedBy>
  <dcterms:modified xsi:type="dcterms:W3CDTF">2008-05-18T18:54:25Z</dcterms:modified>
  <cp:revision>5</cp:revision>
  <dc:subject/>
  <dc:title>el arte</dc:title>
</cp:coreProperties>
</file>