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4170-D381-444D-BCD0-FD139EE6C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BA7F-4ACE-4A3B-9295-359A8E01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70AC-4C8B-4ED8-A0B0-9322344A8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19CC-18C9-4AA8-8B68-FE5D22DEA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FA09-EE4C-4E1B-8D8B-2A3A40E00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E340-0D0E-4DB4-A8BD-B55AEDF8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3AF08-2D8A-4022-826F-285A1542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00CA-9A9D-4CFE-BF63-70040821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3C57-6D2E-4975-A089-EB3D11C6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E223-F7C4-4E9D-B291-3E9BE1D2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F06E-D631-490F-89DE-D5B0043B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42DC-FA5E-4ABD-B705-1ED58F19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9577-49D7-4D96-8763-07DBEE34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00742-8ED4-4821-9C61-AD79DBA0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DC28-7142-4138-BD82-9B36CDE9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5FAB-DC99-4E86-B1DA-A1FABFC4A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A341A-5F9A-4072-8FA4-E9284DD16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F496-120C-436C-B246-2C54CB80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8340-10C4-43D1-837E-E577F24B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7619-51E5-41F3-B800-E95FF1DA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F8AF-2803-4BBF-88FB-F5F4250F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FE26-CDE6-435E-9216-EFE64596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379A-3D57-40B9-A438-701A93EF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348C-D68D-4F65-9BD8-656A6C06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28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CE1B-9EBD-4CB3-AB9D-F6728EF3B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2C38-0A6A-4988-9360-365421D83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78695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page%20121" TargetMode="External"/><Relationship Id="rId3" Type="http://schemas.microsoft.com/office/2007/relationships/media" Target="file:///tmp/home/.config/libreoffice/4/user/gallery/page%20121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l art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09680" y="609480"/>
            <a:ext cx="52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es &amp; Classroom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 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spanish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os estudios sociale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social studie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 historia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history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l ingl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ＭＳ Ｐゴシック"/>
              </a:rPr>
              <a:t>é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nglish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 literatura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iteratur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s matem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ＭＳ Ｐゴシック"/>
              </a:rPr>
              <a:t>ática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Ar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2133720"/>
            <a:ext cx="815328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mathematic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 m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ＭＳ Ｐゴシック"/>
              </a:rPr>
              <a:t>úsica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2209680"/>
            <a:ext cx="792468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music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f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ＭＳ Ｐゴシック"/>
              </a:rPr>
              <a:t>ácil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asy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dif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ＭＳ Ｐゴシック"/>
              </a:rPr>
              <a:t>í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il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difficult / hard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l examen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es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 lecci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ＭＳ Ｐゴシック"/>
              </a:rPr>
              <a:t>ón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819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s ciencia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esson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 prueba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quiz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All the Word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3733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a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ci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omput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educacion fi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espa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estudiantes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his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i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7960" y="1828440"/>
            <a:ext cx="3733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liter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matema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mu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i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exa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lec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prue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2971800" y="4791240"/>
            <a:ext cx="152388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615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scienc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 computaci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ＭＳ Ｐゴシック"/>
              </a:rPr>
              <a:t>ón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omputer clas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 educaci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ＭＳ Ｐゴシック"/>
              </a:rPr>
              <a:t>ón fisica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physical education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l espa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  <a:ea typeface="ＭＳ Ｐゴシック"/>
              </a:rPr>
              <a:t>ñol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llegiate School</cp:lastModifiedBy>
  <dcterms:modified xsi:type="dcterms:W3CDTF">2008-05-18T18:54:25Z</dcterms:modified>
  <cp:revision>5</cp:revision>
  <dc:subject/>
  <dc:title>el arte</dc:title>
</cp:coreProperties>
</file>