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436-2A79-4BBC-A3BF-833937EE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012-351B-499D-B9EC-9B73117D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D87-D023-4D4B-BAAB-674EBA24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066-3E57-4F5C-BB1A-3E991CCF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FDE2-F587-437E-A11D-D1DE9B10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9963-BC04-405D-AFDF-532D4CA1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7CD8-1577-4AA0-B54D-DA65D5B1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661-D076-4167-831D-3C4FCD1B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8B1C-D03F-4269-A931-3B1AD9F1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FFB0-1220-4E6C-99CC-236EB813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33D7-933D-456A-BDB0-11991BC3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489-632A-4FE1-B686-2FEA1251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0B13-060E-4662-B652-05CD68A5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7AC6-457A-443E-8C1E-6E12AAA8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53AB-0D75-4F22-8B4A-FC3DFC3F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91E0-A59A-4487-A399-7B2A1220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7C79-7663-40EB-AD07-ABDB52E0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ACE-5896-4947-AF45-F788EF28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27B-3BEF-42A0-9918-B8373924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CE6-E214-429A-B6DB-DB0DB764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C7B-C546-4BCF-9673-31568186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01C-5E77-45F4-ACBF-616CA5B7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525-9FF7-46AF-8658-2688144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CFE-6DFB-4B3B-BCAD-CC3FCEB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782-6A2F-4B06-A5B9-72B9B9D55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515B-BBF8-491B-B0E0-089B6E91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age%20121" TargetMode="External"/><Relationship Id="rId3" Type="http://schemas.microsoft.com/office/2007/relationships/media" Target="file:///tmp/home/.config/libreoffice/4/user/gallery/page%20121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art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&amp; Classroom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pan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os estudios socia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cial studi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histo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ingl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é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gl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iteratur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mate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tic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themat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ú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us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as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ficult / har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xame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ec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cienci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ss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prueb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quiz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ducacion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studiant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71800" y="4791240"/>
            <a:ext cx="1523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1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cienc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comput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mputer clas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educ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 fi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hysical educ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spa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ño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legiate School</cp:lastModifiedBy>
  <dcterms:modified xsi:type="dcterms:W3CDTF">2008-05-18T18:54:25Z</dcterms:modified>
  <cp:revision>5</cp:revision>
  <dc:subject/>
  <dc:title>el arte</dc:title>
</cp:coreProperties>
</file>