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1A9-5E31-4C9B-8702-B467021A3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FCC4-D55C-4F88-8CE6-A5658977F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B8D0-0EF8-44C8-8244-7075E7D8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A6F-779F-4202-AAAD-0793911F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EEA-E2E4-4B62-868B-9A76979A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1372-ADAA-4593-9045-60E35B7FE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5BC7-BD5A-4287-9C7C-58C7145C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9F6-9B8D-40E5-BA1C-4D44A2B2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FA01-2615-40C2-A969-8AD15ADA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AD5-5149-4302-8AE1-124DAAB2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3F9-0781-4068-AD24-098005AB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71F-F1DC-4AC7-9089-FBFB5D0A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AFC-353F-4926-8D85-3EA1D294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BEE4-07A5-43AD-99D3-775C4F2A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161A-0C66-41B0-BCB3-3E548803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DE6-3BC9-4CE0-A34D-1C3CA933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0028-D96A-449D-82E0-1875000A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AB04-F7CA-4048-A1F0-397F7FBC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C187-C250-43F5-A5EC-0D0AB8D7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BC9-D0B9-4E42-8042-83DCA3D4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A76-97A3-4831-B486-7C4BF76F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5B9-368D-4F23-860A-D5BEA03A2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4990-9CB2-4B73-9615-48E3FF2E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71D-2992-42F5-B66A-5F9095A8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578-B093-40D4-BB4D-FD00F16B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FB0-CCB7-4885-B258-8A28534B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951E-803C-4180-AD17-9022B1EB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478D-F5A1-437D-9D92-8F2A71E19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3384-289B-4E0F-BC71-9D5021FF9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B70E-EA8D-46B9-B806-52DC66390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680-9A00-4845-B682-DC82CB24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064-7EFE-4730-B15F-CEE2A96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90D-D4A8-4C15-8D45-FDEA606A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2BF-AA41-47B7-83DF-63674FD5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B07C-E722-4F2C-A980-11563782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AF17-A64B-48A7-B56A-FF1078A0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6668-2801-43FD-94EE-E70DFDF5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9BE6-EEEA-4DD6-B4E8-8396F0B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A7A8-61F8-469F-8E97-09498A0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17F8-3A07-4AB5-8B86-CE5F137A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FC32-91D2-4F21-9D64-97515D1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D84-3B99-4FD6-B09B-F0ACE8E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9DE3-49D2-4514-A052-63E48BE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69AF-451E-4C38-9BB2-2156F99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6401-DB32-4654-900B-2D9032BA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8667-9CF4-4F81-9204-32B17558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8FD6-A467-4BC7-A876-9B875349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CA4-ECB1-4E6F-B935-1657AA29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E46-7348-4F30-9073-8852C43A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D74-F8B3-445A-9A4A-4943661A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B56-4731-402C-AFC1-E9A3C5F8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156-3ECA-4DBA-800A-5935A608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D4A-57C8-4A1E-BE08-DF4D5A9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B3A-1E89-4B96-AD99-84BE6D2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AAE-65B7-404C-A96E-5DEB9C47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C7C-AE07-4246-8678-0917D557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tudi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tea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t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en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pe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ait for/ to expec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g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i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at/ to wat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v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stud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ecesi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nee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ass/ to happen/ to pass b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repa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repa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u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u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yud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hel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usc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for/ to 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tes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nsw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señar</a:t>
            </a:r>
            <a:r>
              <a:rPr b="1" lang="en-US" sz="4400" spc="-1" strike="noStrike">
                <a:solidFill>
                  <a:srgbClr val="996600"/>
                </a:solidFill>
                <a:latin typeface="ヒラギノ明朝 ProN W6"/>
                <a:ea typeface="ＭＳ Ｐゴシック"/>
              </a:rPr>
              <a:t>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ty Sinkler</cp:lastModifiedBy>
  <dcterms:modified xsi:type="dcterms:W3CDTF">2008-05-23T23:16:26Z</dcterms:modified>
  <cp:revision>10</cp:revision>
  <dc:subject/>
  <dc:title>el arte</dc:title>
</cp:coreProperties>
</file>