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Click to move the slide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D9CC5-C20E-4567-9B56-1F2DB5B27F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81C73-F62D-4FA7-8280-EC564ED5A5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99707-8C3B-49D1-80A7-95ABA4F03E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E75F9-572D-4739-BB5F-45D31A8284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DBD52-AC84-4A8B-96E6-D21D797A3E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59FC2-B1BC-4386-9A94-1BB4F29DF1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C9C87-BE5D-4A6E-B7A6-2C9F925D53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2BA60-D271-4EAC-8DBF-86D0FBF837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33A00-B8E1-4AD7-89CE-4A169A2E25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892E2-1110-4622-9387-91E9233809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0B9E3-F90D-4238-AF4B-5005F1A458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8EC28-85E0-4123-9D9C-7F926C8A09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FE7C2-7E21-4057-BFDD-F341FA9500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C6876-C165-4A9F-96C1-9D72F96DA2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FB526-73FE-42E8-945A-D1D828D188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AA6AA-0A94-4841-B047-B3E17BF9CE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CBD86-AF27-41AB-AE44-091BDDEFA6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4A5A6-FEE8-4BCD-8F6E-D9D602CC6D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5FB10-E8A6-4BBA-ADB0-224C85E41B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94987-A52B-469B-AF20-4EEF148BB8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F6DAC-2040-4939-A12F-0F0055786E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A5DBF-D950-4629-A6E7-92926C3B4D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1D2A3-4A98-41A2-8039-C66DF960E2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6A0BE-D686-48CA-A784-77F30F0454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55691-F8D9-45DE-96C9-4D212CE86B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C7CA8-5469-4DEA-B22A-D9376FAD1C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0BC68-62BC-4680-A693-6EFF1A2024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C0939-0533-4FD2-AC80-D05DD823DB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35B73-6664-4FF8-AC39-57D6038C90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0ECAB-7F3D-4ED3-AA6E-F72D726965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70C50-5196-4D4F-8BFA-B00FC3C40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2120" y="4057200"/>
            <a:ext cx="761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EEF2F-C760-4209-BE23-6EE2789A0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2120" y="405720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320" y="405720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106D3-2DB0-4CE6-A216-C2DAA45D9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38640" y="182844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15160" y="182844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2120" y="405720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38640" y="405720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15160" y="405720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17ADE-3766-413A-A03C-628A7A3F8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D75C6-953F-46B8-B22F-702111C70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CF9C1-7CE4-4C0F-93A1-8A6D4D470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08AD7-BCE6-427B-95DF-88CFED250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9B687-5BE8-4D67-B941-A3DDFD3B6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6662E-660D-42EE-A6DB-B0714F463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570B3-AE87-4368-A0F4-957B99CCF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762120" y="405720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9CEA1-7D41-43A9-A1C0-8BFFA4B3A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DE043-C5B8-4666-9922-184BB3666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6320" y="405720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9F8D7-16F9-42F4-AF63-542347293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62120" y="4057200"/>
            <a:ext cx="761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A3CE0-1EAE-48F3-BDAF-797B0DD98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62120" y="4057200"/>
            <a:ext cx="761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A984B-32AF-45D5-B126-2E1C0EA63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62120" y="405720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6320" y="405720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EEFCC-F386-4F84-B2EA-A88F6DFA9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8640" y="182844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15160" y="182844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762120" y="405720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8640" y="405720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15160" y="405720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EF5F6-3BE8-447D-9977-994C88709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5CBE4-2EA2-44C4-B24B-1B4FCC6FE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8602D-3B6E-4086-8ACD-69A1AF2E1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9AE47-AC4C-4534-8315-68FE1FE69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2F3A1-167F-4599-9E6B-5D6E751C1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2120" y="405720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0B7ED-67AF-4130-BBC2-3D967F81A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320" y="405720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08044-74D2-43F4-B9FE-94CE96761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2120" y="4057200"/>
            <a:ext cx="761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642B1-C878-4DD4-B808-C71215F00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4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742840" y="6248520"/>
            <a:ext cx="342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9E0C0-4EC9-41EC-8AD2-0B207785D5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7869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7869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7869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7869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ED2E4-969B-4AAB-A713-5E85DA8334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Estudiar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2209680" y="609480"/>
            <a:ext cx="5257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b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p 12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To teach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243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entrar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243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to enter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esperar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243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to wait for/ to expect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243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llegar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243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to arrive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mirar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243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to look at/ to watch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243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838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llevar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to study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243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to wear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2133720"/>
            <a:ext cx="8153280" cy="259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838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necesitar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243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to need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3160" y="2209680"/>
            <a:ext cx="7924680" cy="243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838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pasar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243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to pass/ to happen/ to pass by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243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838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preparar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243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to prepare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243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838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usar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243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to use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All the Words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373356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tudi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yud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sc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st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ñ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ntr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sper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leg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47960" y="1828440"/>
            <a:ext cx="373356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lev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r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cesit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s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par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6" descr=""/>
          <p:cNvPicPr/>
          <p:nvPr/>
        </p:nvPicPr>
        <p:blipFill>
          <a:blip r:embed="rId2"/>
          <a:stretch/>
        </p:blipFill>
        <p:spPr>
          <a:xfrm>
            <a:off x="2895480" y="4419720"/>
            <a:ext cx="129564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21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21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7553" fill="hold"/>
                                        <p:tgtEl>
                                          <p:spTgt spid="1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819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ayudar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to help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243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buscar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243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to look for/ to search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243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contestar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243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to answer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enseñar</a:t>
            </a:r>
            <a:r>
              <a:rPr b="1" lang="en-US" sz="4400" spc="-1" strike="noStrike">
                <a:solidFill>
                  <a:srgbClr val="996600"/>
                </a:solidFill>
                <a:latin typeface="ヒラギノ明朝 ProN W6"/>
                <a:ea typeface="ＭＳ Ｐゴシック"/>
              </a:rPr>
              <a:t> 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tty Sinkler</cp:lastModifiedBy>
  <dcterms:modified xsi:type="dcterms:W3CDTF">2008-05-23T23:16:26Z</dcterms:modified>
  <cp:revision>10</cp:revision>
  <dc:subject/>
  <dc:title>el arte</dc:title>
</cp:coreProperties>
</file>