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109-18BD-4DA9-9187-5C15F3B8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1D5-8B11-4004-8155-0EF821A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FAC-B0B0-4E60-9A37-18C48E399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F68-02C4-4943-A864-31339436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F7A-20CB-47B3-B3D0-049B8F99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50CE-2F38-401F-B643-958A0E5A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AF1E-4C02-4541-BB76-14818CF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33F1-0397-4B11-AAAE-B6AB1DC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0A6B-CFB2-44BC-A210-1CE6014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3E61-6C8F-4251-9F4D-DAC87D01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DDD6-9B50-45C6-8303-CBA4370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445-D409-400E-A773-1806BE46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3B4F-757C-4241-A3E8-4ADBBEF7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6C67-B157-4BFD-962C-E97F613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B5CD-AAE1-4140-A52D-5D6667D9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F0CB-3D90-4E70-9238-316A99DB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393-F135-409A-A392-A772D61F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73DD-F18D-4D75-ADC9-D1537B5C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A85A-318B-4DAF-B6B6-B0792773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E73-32E0-4D3E-BEFC-87F93E78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E8C-BE7F-4011-83B2-37DD109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2D0-2668-493E-9D6C-BFA6CBA7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860-6869-4641-B006-94CF0597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78A-E0D6-4301-8FCA-C08185C4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F695-C5A7-4E54-B1F3-F807A632D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4C7-5351-4705-907D-9CA130930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age%20121" TargetMode="External"/><Relationship Id="rId3" Type="http://schemas.microsoft.com/office/2007/relationships/media" Target="file:///tmp/home/.config/libreoffice/4/user/gallery/page%20121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art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&amp; Classroom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pan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os estudios socia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cial studi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histo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ingl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é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gl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iteratur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mate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tic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themat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ú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us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as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ficult / har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xame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ec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cienci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ss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prueb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quiz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ducacion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studiant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479124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cienc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comput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mputer clas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educ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 fi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hysical educ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spa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ño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legiate School</cp:lastModifiedBy>
  <dcterms:modified xsi:type="dcterms:W3CDTF">2008-05-18T18:54:25Z</dcterms:modified>
  <cp:revision>5</cp:revision>
  <dc:subject/>
  <dc:title>el arte</dc:title>
</cp:coreProperties>
</file>